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CDAF-419D-4B8D-9BB8-88E4111856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dar autores!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fogadas=abaixo do nível  das bancadas. Dados coletados com sistema estabilizado e homogeneizado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fogadas=abaixo do nível  das bancadas. Dados coletados com sistema estabilizado e homogeneizado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fogadas=abaixo do nível  das bancadas. Dados coletados com sistema estabilizado e homogeneizado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gistro de esfera para poder retirar o piezômetro! Tinha suspiro no piezômetro!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EB0-AE5C-4CDA-B589-1D678D58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E8D-FC5D-499D-B041-56A74468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EE2-D4F1-4C38-BDF7-BA756CB2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60D-1065-4BC9-938F-40B4A5CC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A6B77-D19B-41EC-8F1B-1A109F11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1E0A1-9205-4661-8080-5DFB028B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6FE88-27F6-4858-91C2-792F39C7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C5B17-148B-419B-B93D-E28E9913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9CF33-2F0C-460F-9FD2-5E6412BE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7556A-861B-4306-8EDC-55B9D663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00099-1D17-44D4-A5F5-9C2941E4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76A-695D-4F81-930C-0914C72B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19BC5-77DB-4564-BC52-ACFDF30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0D029-A850-47CB-B783-DCE9B53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9359C-77EF-4481-A6D4-1877558A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B1D23-14B1-4928-8BFD-35F30E1B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A2EC1-C7E8-4E33-9731-2398DA09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683-A7A8-4895-A68A-047DE6FB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14A-53ED-4A60-AA33-92E345D8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C53-94B5-4382-861F-B5B46491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9FC-D9CE-4ABF-82E8-73C5EF12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87F-C5A9-4C3A-9D80-F36A3A1F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313-DE30-4661-A8AE-6F30AE72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F4B-F460-4D76-A818-FABE797E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A3BD-16BF-4153-ABDA-72CB55A9C53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A521-8890-42FE-A21B-2EE16D624B2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1523880"/>
            <a:ext cx="85690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ahoma"/>
              </a:rPr>
              <a:t>ESTUDO DE COMPORTAMENTO HIDRÁULICO DE EFLUENTES AGROINDUSTRIAIS EM CONDUTOS FORÇAD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dilson Luiz Borsso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Jorge Augusto Wissman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OLSISTA PIBIC/CNPq-UNIOES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rso de Engenharia Agrícola 3º 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rientador: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f. Dr. Silvio César Sampai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ntr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e Ciências Exatas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e Tecnológ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676520" y="31320"/>
            <a:ext cx="6984720" cy="94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Universidade Estadual do Oeste do Para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15238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7fc0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tou-se que a perda de carga varia conforme a vaz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7fc0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azão de 0,001 m³/s: perdas de carga de 0,65 e 0,70 mca, aumento de 8%  quando o tubo conduz 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7fc0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azão de 0,0005 m³/s, aumento de 31% quando o tubo de PVC de 32mm conduz ARA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s conexões soldáveis a perda de carga localizada foi maior com ARA, ao contrário das conexões rosqueáve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orém, de modo geral, a ARA apresentou maiores perdas de cargas localizadas que a água nas conexõ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ff"/>
                </a:solidFill>
                <a:latin typeface="Tahoma"/>
                <a:ea typeface="Times New Roman"/>
              </a:rPr>
              <a:t>CONCLUSÕES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 ARA apresentou em média uma diminuição de 42% e 21% no valor do coeficiente “C” de rugosidade da equação de Hazen-Willia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 perda de carga distribuída apresentada pela ARA foi maior que para água, porém o aumento é função do regime de escoa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600200" y="228240"/>
            <a:ext cx="6858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a perda de carga distribuída, estima-se um aumento que varia de 31 a 8% com a ARA em relação à água, porém essa diferença é sujeita a variação da vazã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 perda de carga localizada encontrada no experimento para água foi maior que aqueles encontrados na literatu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s conexões soldáveis a perda de carga localizada com a ARA foi maior que na água, ao contrário das conexões rosqueáve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14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59920"/>
            <a:ext cx="8915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44756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ee13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rise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 relação à disponibilidade de recursos hídricos de boa qualidade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ee13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siderar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utilização dessas águas residuár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ee13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 tipo de fluido e sua perda de carga são fundamentais no dimensionamento de tubulações e bomb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ee13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acterísticas hidráulicas de águas residuárias são praticamente desconhecidas (fluido não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newtoniano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 presente trabalho visou estimar a perda de carga em tubulações comerciais utilizando como fluido circulante Água Residuária de Avicultura (ARA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ff"/>
                </a:solidFill>
                <a:latin typeface="Tahoma"/>
                <a:ea typeface="Times New Roman"/>
              </a:rPr>
              <a:t>MATERIAL E </a:t>
            </a:r>
            <a:r>
              <a:rPr b="1" lang="pt-BR" sz="4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pt-BR" sz="42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77724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ee13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ma de aviário. ST de 3,49 g/ L.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e13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as bancadas foram construíd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junto moto-bo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Hidrômetro magné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ubulações de aço zinc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”;   2,5”;   2”;    1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ubulações de PV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75 mm;  60 mm;  50 mm;  32 m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anômetros de mercúrio em “U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7164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IMAG00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5791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10199"/>
                </a:solidFill>
                <a:latin typeface="Tahoma"/>
              </a:rPr>
              <a:t>Bancada1 Perda de carga distribuí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0058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-228600" y="0"/>
            <a:ext cx="1619280" cy="1511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5791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10199"/>
                </a:solidFill>
                <a:latin typeface="Tahoma"/>
              </a:rPr>
              <a:t>Bancada1 Perda de carga distribuí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005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5791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10199"/>
                </a:solidFill>
                <a:latin typeface="Tahoma"/>
              </a:rPr>
              <a:t>Bancada2 Perda de carga localiz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 DE ENSA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ombas afog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ubulações e conexõ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ervatório superior ext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binou-se escoamentos, diâmetros e os tipos de materiais de fabricaçã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aseado na equação de Hazen-Williams para a (perda de carga distribuída e comprimento equivalente para a perda de carga localiz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 água apresentou coeficientes médios de rugosidade (C), 42% e 21% maiores que a ARA, para os tubos de PVC e aço galvanizado, respectiv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ode-se notar a semelhança dos resultados dos coeficientes “C” da equação de Hazen-Williams para a águ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7fc0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ercebe-se que a rugosidade equivalente da ARA é menor que o da águ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ff"/>
                </a:solidFill>
                <a:latin typeface="Tahoma"/>
              </a:rPr>
              <a:t>RESULTADOS OBTIDOS</a:t>
            </a: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5:41:22Z</dcterms:created>
  <dc:creator>K6II 500MHz</dc:creator>
  <dc:description/>
  <dc:language>en-US</dc:language>
  <cp:lastModifiedBy>K6II 500MHz</cp:lastModifiedBy>
  <dcterms:modified xsi:type="dcterms:W3CDTF">2004-09-13T01:50:24Z</dcterms:modified>
  <cp:revision>23</cp:revision>
  <dc:subject/>
  <dc:title>PERDA DE CARGA DISTRIBUÍDA E LOCALIZADA EM TUBULAÇÕES E CONEXÕES CONDUZINDO ÁGUA RESIDUARIA DA AVICULTURA </dc:title>
</cp:coreProperties>
</file>